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63.png" ContentType="image/png"/>
  <Override PartName="/ppt/media/image55.jpeg" ContentType="image/jpeg"/>
  <Override PartName="/ppt/media/image54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20.jpeg" ContentType="image/jpeg"/>
  <Override PartName="/ppt/media/image61.png" ContentType="image/pn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65.jpeg" ContentType="image/jpeg"/>
  <Override PartName="/ppt/media/image39.jpeg" ContentType="image/jpeg"/>
  <Override PartName="/ppt/media/image21.jpeg" ContentType="image/jpeg"/>
  <Override PartName="/ppt/media/image15.jpeg" ContentType="image/jpeg"/>
  <Override PartName="/ppt/media/image16.jpeg" ContentType="image/jpeg"/>
  <Override PartName="/ppt/media/image64.png" ContentType="image/png"/>
  <Override PartName="/ppt/media/image60.jpeg" ContentType="image/jpeg"/>
  <Override PartName="/ppt/media/image37.jpeg" ContentType="image/jpeg"/>
  <Override PartName="/ppt/media/image62.png" ContentType="image/png"/>
  <Override PartName="/ppt/media/image51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18.jpeg" ContentType="image/jpeg"/>
  <Override PartName="/ppt/media/image2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4.jpeg" ContentType="image/jpeg"/>
  <Override PartName="/ppt/media/image41.jpeg" ContentType="image/jpeg"/>
  <Override PartName="/ppt/media/image66.png" ContentType="image/png"/>
  <Override PartName="/ppt/media/image8.png" ContentType="image/png"/>
  <Override PartName="/ppt/media/image23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6AEC-D1E4-4FB5-8A86-98B32531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8D95-7657-4BB3-AACB-5557C063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F62F-0844-4B03-954A-D238C93E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5269-3753-46B6-B8A3-A2AE02D2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AEA2-2241-4DA3-B8AF-6DFEF1E6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F711-C82C-424B-B179-42F05C0C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BABF-9535-4ACA-9355-35283314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9910-3A59-4FBE-BF51-B5674093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6419-D322-41A1-BF9F-22ED42D1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21DA-CF5E-4AB4-8FC6-B50065EE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F399-C2F1-4DA7-96E9-84519E79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67B7-C262-4D82-A822-6C21E2D1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D198-765F-4AF9-98FD-F755D2DE9BAF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6/Czarownic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pl/imgres?imgurl=http://library.thinkquest.org/J0110166/images/ciuciubabka_dog.JPG&amp;imgrefurl=http://library.thinkquest.org/J0110166/Polish-games.htm&amp;h=387&amp;w=600&amp;sz=78&amp;hl=pl&amp;start=18&amp;um=1&amp;tbnid=xqka-ORfK-8S4M:&amp;tbnh=87&amp;tbnw=135&amp;prev=/images?q=ciuciubabka+gra&amp;svnum=10&amp;um=1&amp;hl=p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JohannesPaulII.jpg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en.wikipedia.org/wiki/Image:PopeJohnPaulIIStatueAlmudena_gobeirne.jpg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PolanskiIFFKV.jpg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pl.wikipedia.org/wiki/Grafika:Kopernikus-Olsztyn.jpg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pl.wikipedia.org/wiki/Grafika:Nikolaus_Kopernikus.jpg" TargetMode="External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zielonka.pl/sp3/autor/publikacje/pub08/im/chopin.gif&amp;imgrefurl=http://www.zielonka.pl/sp3/autor/publikacje/pub08/index.html&amp;h=318&amp;w=248&amp;sz=42&amp;hl=en&amp;start=5&amp;um=1&amp;tbnid=uWOqUWgoUgIoGM:&amp;tbnh=118&amp;tbnw=92&amp;prev=/images?q=fryderyk+chopin&amp;svnum=10&amp;um=1&amp;hl=en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s.google.com/imgres?imgurl=http://www.bn.org.pl/chopin/view/graphic/fortepian.jpg&amp;imgrefurl=http://www.bn.org.pl/chopin/&amp;h=230&amp;w=225&amp;sz=11&amp;hl=en&amp;start=1&amp;um=1&amp;tbnid=CccDCrqO-rZL9M:&amp;tbnh=108&amp;tbnw=106&amp;prev=/images?q=fryderyk+chopin+fortepian&amp;svnum=10&amp;um=1&amp;hl=en" TargetMode="External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images.google.com/imgres?imgurl=http://www.cooltourcompany.com/wieliczka2.jpg&amp;imgrefurl=http://www.cooltourcompany.com/saltmine.html&amp;h=300&amp;w=300&amp;sz=14&amp;hl=en&amp;start=5&amp;um=1&amp;tbnid=tdxTYrnuKuF0sM:&amp;tbnh=116&amp;tbnw=116&amp;prev=/images?q=wieliczka+salt+mine&amp;svnum=10&amp;um=1&amp;hl=en" TargetMode="External"/><Relationship Id="rId3" Type="http://schemas.openxmlformats.org/officeDocument/2006/relationships/image" Target="../media/image34.jpeg"/><Relationship Id="rId4" Type="http://schemas.openxmlformats.org/officeDocument/2006/relationships/hyperlink" Target="http://images.google.com/imgres?imgurl=http://upload.wikimedia.org/wikipedia/commons/thumb/6/6a/Wieliczka_salt_mine_chandelier.jpg/700px-Wieliczka_salt_mine_chandelier.jpg&amp;imgrefurl=http://commons.wikimedia.org/wiki/Image:Wieliczka_salt_mine_chandelier.jpg&amp;h=600&amp;w=700&amp;sz=132&amp;hl=en&amp;start=7&amp;um=1&amp;tbnid=-uMXg5oD8hyEfM:&amp;tbnh=120&amp;tbnw=140&amp;prev=/images?q=wieliczka+salt+mine&amp;svnum=10&amp;um=1&amp;hl=en" TargetMode="External"/><Relationship Id="rId5" Type="http://schemas.openxmlformats.org/officeDocument/2006/relationships/image" Target="../media/image35.jpeg"/><Relationship Id="rId6" Type="http://schemas.openxmlformats.org/officeDocument/2006/relationships/hyperlink" Target="http://images.google.com/imgres?imgurl=http://alternative4p4.blox.pl/resource/wroclaw_11_Ostrow_Tumski_1.jpg&amp;imgrefurl=http://alternative4p4.blox.pl/html/1310721,262146,21.html?221021&amp;h=409&amp;w=555&amp;sz=73&amp;hl=en&amp;start=1&amp;um=1&amp;tbnid=F47b94T8qSbgoM:&amp;tbnh=98&amp;tbnw=133&amp;prev=/images?q=ostr&#243;w+tumski&amp;svnum=10&amp;um=1&amp;hl=en&amp;sa=N" TargetMode="External"/><Relationship Id="rId7" Type="http://schemas.openxmlformats.org/officeDocument/2006/relationships/image" Target="../media/image36.jpeg"/><Relationship Id="rId8" Type="http://schemas.openxmlformats.org/officeDocument/2006/relationships/hyperlink" Target="http://images.google.com/imgres?imgurl=http://alternative4p4.blox.pl/resource/wroclaw_18_ostrow_tumski.jpg&amp;imgrefurl=http://alternative4p4.blox.pl/html/1310721,262146,21.html?221021&amp;h=402&amp;w=555&amp;sz=69&amp;hl=en&amp;start=2&amp;um=1&amp;tbnid=3ITxlMFG8UocHM:&amp;tbnh=96&amp;tbnw=133&amp;prev=/images?q=ostr&#243;w+tumski&amp;svnum=10&amp;um=1&amp;hl=en&amp;sa=N" TargetMode="External"/><Relationship Id="rId9" Type="http://schemas.openxmlformats.org/officeDocument/2006/relationships/image" Target="../media/image37.jpeg"/><Relationship Id="rId10" Type="http://schemas.openxmlformats.org/officeDocument/2006/relationships/hyperlink" Target="http://images.google.com/imgres?imgurl=http://content.answers.com/main/content/wp/en-commons/thumb/3/31/300px-Wroclaw-Katedra-3.jpg&amp;imgrefurl=http://www.answers.com/topic/wroc-aw-1&amp;h=431&amp;w=300&amp;sz=33&amp;hl=en&amp;start=6&amp;tbnid=O6Mew-2Q9XA8gM:&amp;tbnh=126&amp;tbnw=88&amp;prev=/images?q=ostr&#243;w+tumski+katedra&amp;gbv=2&amp;svnum=10&amp;hl=en" TargetMode="External"/><Relationship Id="rId11" Type="http://schemas.openxmlformats.org/officeDocument/2006/relationships/image" Target="../media/image38.jpe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pl/imgres?imgurl=http://adamdziura.9g.pl/zdjecia/wroclaw-miasto-spotkan/image/800/IMG_2213.JPG&amp;imgrefurl=http://adas.jogger.pl/2007/07/11/wroclaw-miasto-spotkan-relacja-weekendowa/&amp;h=600&amp;w=800&amp;sz=191&amp;hl=pl&amp;start=8&amp;um=1&amp;tbnid=cCo2BO8VJPKMyM:&amp;tbnh=107&amp;tbnw=143&amp;prev=/images?q=panorama+raclawicka&amp;svnum=10&amp;um=1&amp;hl=pl&amp;lr=&amp;sa=N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images.google.pl/imgres?imgurl=http://www1.istockphoto.com/file_thumbview_approve/1109469/2/istockphoto_1109469_mariacki_church_2.jpg&amp;imgrefurl=http://www.istockphoto.com/file_closeup/?id=1109469&amp;refnum=575387&amp;h=380&amp;w=285&amp;sz=49&amp;hl=pl&amp;start=8&amp;um=1&amp;tbnid=0kYOuu76-DXLIM:&amp;tbnh=123&amp;tbnw=92&amp;prev=/images?q=mariacki+cathedral&amp;svnum=10&amp;um=1&amp;hl=pl&amp;lr=&amp;sa=N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hyperlink" Target="http://pl.wikipedia.org/wiki/Grafika:Wroclaw_dom_plociennikow.jpg" TargetMode="External"/><Relationship Id="rId3" Type="http://schemas.openxmlformats.org/officeDocument/2006/relationships/image" Target="../media/image42.jpeg"/><Relationship Id="rId4" Type="http://schemas.openxmlformats.org/officeDocument/2006/relationships/hyperlink" Target="http://en.wikipedia.org/wiki/Image:Breslau-rathaus.jpg" TargetMode="External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lh3.google.com/_wUITfEb6kA8/Rn1kZUdspgI/AAAAAAAAAtQ/oFofn_pL9-8/s800/IMGP3095.jpg&amp;imgrefurl=http://picasaweb.google.com/lh/photo/MVkQKWplwlANvUDH806dmg&amp;h=537&amp;w=800&amp;sz=122&amp;hl=en&amp;start=2&amp;sig2=pVMRQE5jc-w5nKDmtljQdw&amp;um=1&amp;tbnid=IZaVI08RRUO_9M:&amp;tbnh=96&amp;tbnw=143&amp;eid=VxdQR5C4IIKM0wTvn9W4Dg&amp;prev=" TargetMode="External"/><Relationship Id="rId2" Type="http://schemas.openxmlformats.org/officeDocument/2006/relationships/image" Target="../media/image44.jpeg"/><Relationship Id="rId3" Type="http://schemas.openxmlformats.org/officeDocument/2006/relationships/hyperlink" Target="http://en.wikipedia.org/wiki/Image:Wroclaw_plac_solny.jpg" TargetMode="External"/><Relationship Id="rId4" Type="http://schemas.openxmlformats.org/officeDocument/2006/relationships/image" Target="../media/image45.jpeg"/><Relationship Id="rId5" Type="http://schemas.openxmlformats.org/officeDocument/2006/relationships/hyperlink" Target="http://en.wikipedia.org/wiki/Image:Poland_Wroclaw_Peoples_Hall.jpg" TargetMode="External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hyperlink" Target="http://images.google.com/imgres?imgurl=http://www.mennica.com.pl/photo/2zloty_2.jpg&amp;imgrefurl=http://www.mennica.com.pl/index.php?pt=/1/product/25,19/2_zote.html&amp;h=190&amp;w=190&amp;sz=47&amp;hl=en&amp;start=5&amp;sig2=saDL0NztU8AwEqfpCnEu9g&amp;um=1&amp;tbnid=XOjhvGxGG-PL8M:&amp;tbnh=103&amp;tbnw=103&amp;ei=IPONR8vlEo3OwQGnydyBBg&amp;prev=/images?q=2+zloty&amp;svnum=10&amp;um=1&amp;hl=en&amp;sa=G" TargetMode="External"/><Relationship Id="rId7" Type="http://schemas.openxmlformats.org/officeDocument/2006/relationships/image" Target="../media/image52.jpeg"/><Relationship Id="rId8" Type="http://schemas.openxmlformats.org/officeDocument/2006/relationships/hyperlink" Target="http://images.google.com/imgres?imgurl=http://www.nbp.gov.pl/banknoty/monety/5zl_r.gif&amp;imgrefurl=http://www.nbp.gov.pl/Homen.aspx?f=en/banknoty/monety.htm&amp;h=100&amp;w=100&amp;sz=7&amp;hl=en&amp;start=2&amp;sig2=is6iuf2QdZaWEjeO9MmM2A&amp;um=1&amp;tbnid=6pm811XSd9N1TM:&amp;tbnh=82&amp;tbnw=82&amp;ei=CfONR4zMNqiaxAHYy7n8BQ&amp;prev=/images?q=5+zloty&amp;svnum=10&amp;um=1&amp;hl=en&amp;sa=G" TargetMode="External"/><Relationship Id="rId9" Type="http://schemas.openxmlformats.org/officeDocument/2006/relationships/image" Target="../media/image53.jpeg"/><Relationship Id="rId10" Type="http://schemas.openxmlformats.org/officeDocument/2006/relationships/hyperlink" Target="http://images.google.com/imgres?imgurl=http://www.mennica.com.pl/photo/1zloty_2.jpg&amp;imgrefurl=http://www.mennica.com.pl/index.php?pt=/1/coins/2.2,19/2006/obiegowe_2.html&amp;h=190&amp;w=190&amp;sz=35&amp;hl=en&amp;start=1&amp;sig2=x5Vh2qFhT2GdtxYi0I5kLQ&amp;um=1&amp;tbnid=7AUtlyp1ualTTM:&amp;tbnh=103&amp;tbnw=103&amp;ei=SPONR8DOEoqOwQHx1pWKBg&amp;prev=/images?q=1+zloty&amp;svnum=10&amp;um=1&amp;hl=en&amp;sa=G" TargetMode="External"/><Relationship Id="rId11" Type="http://schemas.openxmlformats.org/officeDocument/2006/relationships/image" Target="../media/image54.jpeg"/><Relationship Id="rId12" Type="http://schemas.openxmlformats.org/officeDocument/2006/relationships/hyperlink" Target="http://images.google.com/imgres?imgurl=http://e-numizmatyka.pl/store/images/id_1838.gif&amp;imgrefurl=http://e-numizmatyka.pl/store/product_info.php?products_id=558&amp;language=pl&amp;h=80&amp;w=80&amp;sz=4&amp;hl=en&amp;start=3&amp;sig2=ti5Y0smwdBqsnr--NytfuA&amp;um=1&amp;tbnid=DWhvE7YRk29GBM:&amp;tbnh=74&amp;tbnw=74&amp;ei=ZvONR6O4AZm4wQG9sa2ABg&amp;prev=/images?q=50+groszy&amp;svnum=10&amp;um=1&amp;hl=en&amp;sa=G" TargetMode="External"/><Relationship Id="rId13" Type="http://schemas.openxmlformats.org/officeDocument/2006/relationships/image" Target="../media/image55.jpeg"/><Relationship Id="rId14" Type="http://schemas.openxmlformats.org/officeDocument/2006/relationships/hyperlink" Target="http://images.google.com/imgres?imgurl=http://www.mennica.com.pl/photo/20groszy_2.jpg&amp;imgrefurl=http://www.mennica.com.pl/index.php?pt=/1/coins/2.3,19/2006/obiegowe_3.html&amp;h=190&amp;w=190&amp;sz=31&amp;hl=en&amp;start=1&amp;sig2=VHctzkW7SP9djDTDzyjZBQ&amp;um=1&amp;tbnid=NomjXWSEfy6PfM:&amp;tbnh=103&amp;tbnw=103&amp;ei=efONR5fLOpqYwwGegsGHBg&amp;prev=/images?q=20+groszy&amp;svnum=10&amp;um=1&amp;hl=en&amp;sa=G" TargetMode="External"/><Relationship Id="rId15" Type="http://schemas.openxmlformats.org/officeDocument/2006/relationships/image" Target="../media/image56.jpeg"/><Relationship Id="rId16" Type="http://schemas.openxmlformats.org/officeDocument/2006/relationships/hyperlink" Target="http://images.google.com/imgres?imgurl=http://www.mennica.com.pl/photo/10groszy_2.jpg&amp;imgrefurl=http://www.mennica.com.pl/index.php?pt=/1/coins/2.3,19/2006/obiegowe_3.html&amp;h=190&amp;w=190&amp;sz=32&amp;hl=en&amp;start=1&amp;sig2=E7jJysGXEij8OIZdy7PIKQ&amp;um=1&amp;tbnid=1DZHbFIv1r0WyM:&amp;tbnh=103&amp;tbnw=103&amp;ei=kvONR4qMEpWmwwHf5JCHBg&amp;prev=/images?q=10+groszy&amp;svnum=10&amp;um=1&amp;hl=en&amp;sa=G" TargetMode="External"/><Relationship Id="rId17" Type="http://schemas.openxmlformats.org/officeDocument/2006/relationships/image" Target="../media/image57.jpeg"/><Relationship Id="rId18" Type="http://schemas.openxmlformats.org/officeDocument/2006/relationships/hyperlink" Target="http://images.google.com/imgres?imgurl=http://www.mennica.com.pl/photo/5groszy_2.jpg&amp;imgrefurl=http://www.mennica.com.pl/index.php?pt=/1/coins/2.4,19/2006/obiegowe_4.html&amp;h=190&amp;w=190&amp;sz=34&amp;hl=en&amp;start=1&amp;sig2=vZrpjaHMgI8RDNjpd0jN3A&amp;um=1&amp;tbnid=Og7p_AeJCD7dRM:&amp;tbnh=103&amp;tbnw=103&amp;ei=rfONR9TrG42SwQGbrfGHBg&amp;prev=/images?q=5+groszy&amp;svnum=10&amp;um=1&amp;hl=en&amp;sa=G" TargetMode="External"/><Relationship Id="rId19" Type="http://schemas.openxmlformats.org/officeDocument/2006/relationships/image" Target="../media/image58.jpeg"/><Relationship Id="rId20" Type="http://schemas.openxmlformats.org/officeDocument/2006/relationships/hyperlink" Target="http://images.google.com/imgres?imgurl=http://www.mercadolibre.com.co/jm/img?s=MCO&amp;f=4011820_4967.jpg&amp;v=P&amp;imgrefurl=http://articulo.mercadolibre.com.co/MCO-4906973-3-monedas-de-polonia-1-2-5-groszy-_JM&amp;h=250&amp;w=250&amp;sz=8&amp;hl=en&amp;start=2&amp;sig2=rdhBhiNIDO2s4aQvZ8JFLA&amp;um=1&amp;tbnid=a_8LZA_Hz0ehGM:&amp;tbnh=111&amp;tbnw=111&amp;ei=8_ONR8HeI5vmwgGD86T-BQ&amp;prev=/images?q=2+groszy&amp;svnum=10&amp;um=1&amp;hl=en&amp;sa=G" TargetMode="External"/><Relationship Id="rId21" Type="http://schemas.openxmlformats.org/officeDocument/2006/relationships/image" Target="../media/image59.jpeg"/><Relationship Id="rId22" Type="http://schemas.openxmlformats.org/officeDocument/2006/relationships/hyperlink" Target="http://images.google.com/imgres?imgurl=http://www.mercadolibre.com.co/jm/img?s=MCO&amp;f=4011820_1195.jpg&amp;v=P&amp;imgrefurl=http://articulo.mercadolibre.com.co/MCO-4906973-3-monedas-de-polonia-1-2-5-groszy-_JM&amp;h=250&amp;w=250&amp;sz=9&amp;hl=en&amp;start=3&amp;sig2=g5EnlOk2AJ9_e1LMsjFvNA&amp;um=1&amp;tbnid=mzD8Y-BP5XdjaM:&amp;tbnh=111&amp;tbnw=111&amp;ei=8_ONR8HeI5vmwgGD86T-BQ&amp;prev=/images?q=2+groszy&amp;svnum=10&amp;um=1&amp;hl=en&amp;sa=G" TargetMode="External"/><Relationship Id="rId23" Type="http://schemas.openxmlformats.org/officeDocument/2006/relationships/image" Target="../media/image60.jpeg"/><Relationship Id="rId24" Type="http://schemas.openxmlformats.org/officeDocument/2006/relationships/hyperlink" Target="http://images.google.com/imgres?imgurl=http://www.mennica.com.pl/photo/20groszy_2.jpg&amp;imgrefurl=http://www.mennica.com.pl/index.php%3Fpt%3D/1/coins/2.3,19/2006/obiegowe_3.html&amp;h=190&amp;w=190&amp;sz=31&amp;hl=en&amp;start=1&amp;sig2=VHctzkW7SP9djDTDzyjZBQ&amp;um=1&amp;tbnid=NomjXWSEfy6PfM:&amp;tbnh=103&amp;tbnw=103&amp;ei=efONR5fLOpqYwwGegsGHBg&amp;prev=/images%3Fq%3D20%2Bgroszy%26svnum%3D10%26um%3D1%26hl%3Den%26sa%3DG" TargetMode="External"/><Relationship Id="rId25" Type="http://schemas.openxmlformats.org/officeDocument/2006/relationships/hyperlink" Target="http://images.google.com/imgres?imgurl=http://www.mennica.com.pl/photo/5groszy_2.jpg&amp;imgrefurl=http://www.mennica.com.pl/index.php%3Fpt%3D/1/coins/2.4,19/2006/obiegowe_4.html&amp;h=190&amp;w=190&amp;sz=34&amp;hl=en&amp;start=1&amp;sig2=vZrpjaHMgI8RDNjpd0jN3A&amp;um=1&amp;tbnid=Og7p_AeJCD7dRM:&amp;tbnh=103&amp;tbnw=103&amp;ei=rfONR9TrG42SwQGbrfGHBg&amp;prev=/images%3Fq%3D5%2Bgroszy%26svnum%3D10%26um%3D1%26hl%3Den%26sa%3DG" TargetMode="External"/><Relationship Id="rId2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Wroc&#322;aw" TargetMode="External"/><Relationship Id="rId2" Type="http://schemas.openxmlformats.org/officeDocument/2006/relationships/hyperlink" Target="http://festivals.iloveindia.com/easter/traditions/easter-in-poland.html" TargetMode="External"/><Relationship Id="rId3" Type="http://schemas.openxmlformats.org/officeDocument/2006/relationships/hyperlink" Target="http://library.thinkquest.org/J0110166/Polish-games.htm" TargetMode="External"/><Relationship Id="rId4" Type="http://schemas.openxmlformats.org/officeDocument/2006/relationships/hyperlink" Target="http://en.wikipedia.org/wiki/Pope_John_Paul_II" TargetMode="External"/><Relationship Id="rId5" Type="http://schemas.openxmlformats.org/officeDocument/2006/relationships/hyperlink" Target="http://en.wikipedia.org/wiki/Roman_Polanski" TargetMode="External"/><Relationship Id="rId6" Type="http://schemas.openxmlformats.org/officeDocument/2006/relationships/hyperlink" Target="http://upload.wikimedia.org/wikipedia/commons/archive/c/c3/20050210234622!Polish-alphabet.png" TargetMode="External"/><Relationship Id="rId7" Type="http://schemas.openxmlformats.org/officeDocument/2006/relationships/hyperlink" Target="http://images.google.com/images?hl=en&amp;q=fryderyk+chopin&amp;um=1&amp;ie=UTF-8&amp;sa=N&amp;tab=wi" TargetMode="External"/><Relationship Id="rId8" Type="http://schemas.openxmlformats.org/officeDocument/2006/relationships/hyperlink" Target="http://przewodnik.onet.pl/_i/map/polska.gif" TargetMode="External"/><Relationship Id="rId9" Type="http://schemas.openxmlformats.org/officeDocument/2006/relationships/hyperlink" Target="http://images.google.com/images?svnum=10&amp;um=1&amp;hl=en&amp;q=main+square+Wroclaw&amp;btnG=Search+Images" TargetMode="External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ages?hl=en&amp;q=polish+money+&amp;um=1&amp;ie=UTF-8&amp;sa=N&amp;tab=wi" TargetMode="External"/><Relationship Id="rId2" Type="http://schemas.openxmlformats.org/officeDocument/2006/relationships/hyperlink" Target="http://images.google.com/images?um=1&amp;hl=en&amp;q=polish+Flag" TargetMode="External"/><Relationship Id="rId3" Type="http://schemas.openxmlformats.org/officeDocument/2006/relationships/hyperlink" Target="http://images.google.com/images?um=1&amp;hl=en&amp;q=wroc&#322;aw%27s+flag" TargetMode="External"/><Relationship Id="rId4" Type="http://schemas.openxmlformats.org/officeDocument/2006/relationships/hyperlink" Target="http://images.google.com/images?um=1&amp;hl=en&amp;q=the+white+eagle+of+poland" TargetMode="External"/><Relationship Id="rId5" Type="http://schemas.openxmlformats.org/officeDocument/2006/relationships/hyperlink" Target="http://images.google.com/images?um=1&amp;hl=en&amp;q=Jesus" TargetMode="External"/><Relationship Id="rId6" Type="http://schemas.openxmlformats.org/officeDocument/2006/relationships/hyperlink" Target="http://images.google.com/images?um=1&amp;hl=en&amp;q=polish+language" TargetMode="External"/><Relationship Id="rId7" Type="http://schemas.openxmlformats.org/officeDocument/2006/relationships/hyperlink" Target="http://images.google.com/images?um=1&amp;hl=en&amp;q=bigos" TargetMode="External"/><Relationship Id="rId8" Type="http://schemas.openxmlformats.org/officeDocument/2006/relationships/hyperlink" Target="http://images.google.com/images?um=1&amp;hl=en&amp;q=uszka+i+pierogi" TargetMode="External"/><Relationship Id="rId9" Type="http://schemas.openxmlformats.org/officeDocument/2006/relationships/hyperlink" Target="http://images.google.com/images?um=1&amp;hl=en&amp;sa=X&amp;oi=spell&amp;resnum=0&amp;ct=result&amp;cd=1&amp;q=golabki&amp;spell=1" TargetMode="External"/><Relationship Id="rId10" Type="http://schemas.openxmlformats.org/officeDocument/2006/relationships/hyperlink" Target="http://images.google.com/images?um=1&amp;hl=en&amp;q=flaki" TargetMode="External"/><Relationship Id="rId11" Type="http://schemas.openxmlformats.org/officeDocument/2006/relationships/hyperlink" Target="http://images.google.com/images?um=1&amp;hl=en&amp;q=sernik" TargetMode="External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jpeg"/><Relationship Id="rId6" Type="http://schemas.openxmlformats.org/officeDocument/2006/relationships/image" Target="../media/image6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33ff.com/flags/XL_flags/Poland_flag.gif&amp;imgrefurl=http://www.33ff.com/flags/worldflags/Poland_flag.html&amp;h=240&amp;w=360&amp;sz=2&amp;hl=en&amp;start=2&amp;sig2=d4I8G9uOZE9dvlTe3AwtWw&amp;tbnid=fdxXqQtkNdwVzM:&amp;tbnh=81&amp;tbnw=121&amp;ei=DrGQR6KlH4iC-AKK2vixDg&amp;prev=/images%3Fq%3Dpolish%2Bflag%26gbv%3D2%26svnum%3D10%26hl%3Den%26sa%3DG" TargetMode="External"/><Relationship Id="rId2" Type="http://schemas.openxmlformats.org/officeDocument/2006/relationships/hyperlink" Target="http://images.google.com/imgres?imgurl=http://www.33ff.com/flags/XL_flags/Poland_flag.gif&amp;imgrefurl=http://www.33ff.com/flags/worldflags/Poland_flag.html&amp;h=240&amp;w=360&amp;sz=2&amp;hl=en&amp;start=2&amp;sig2=d4I8G9uOZE9dvlTe3AwtWw&amp;tbnid=fdxXqQtkNdwVzM:&amp;tbnh=81&amp;tbnw=121&amp;ei=DrGQR6KlH4iC-AKK2vixDg&amp;prev=/images?q=polish+flag&amp;gbv=2&amp;svnum=10&amp;hl=en&amp;sa=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en.wikipedia.org/wiki/Image:Wroclaw_horizontal_flag.svg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en.wikipedia.org/wiki/Image:Herb_wroclaw.svg" TargetMode="External"/><Relationship Id="rId7" Type="http://schemas.openxmlformats.org/officeDocument/2006/relationships/image" Target="../media/image4.png"/><Relationship Id="rId8" Type="http://schemas.openxmlformats.org/officeDocument/2006/relationships/hyperlink" Target="http://images.google.com/imgres?imgurl=http://4imgs.com/306/x/850511_FULL.jpg&amp;imgrefurl=http://www.polandbymail.com/get_item_850511_poland-fridge-photo-magnet-white-eagle.htm&amp;h=300&amp;w=300&amp;sz=35&amp;hl=en&amp;start=1&amp;sig2=p6WgHq2VO_PPoxnJkd4-3g&amp;um=1&amp;tbnid=1l6tJABTYTcbHM:&amp;tbnh=116&amp;tbnw=116&amp;ei=QSyXR9zDDZvmwgHU8ZibCw&amp;prev=/images?q=the+white+eagle+of+poland&amp;svnum=10&amp;um=1&amp;hl=en&amp;sa=N" TargetMode="External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ramnaharaim.org/Photo/Jezus4.jpg&amp;imgrefurl=http://www.aramnaharaim.org/links_en.htm&amp;h=557&amp;w=414&amp;sz=35&amp;hl=en&amp;start=1&amp;sig2=J6uE7ZN5XyiiJ6susfFtdQ&amp;tbnid=g7cd1UCG0aoOTM:&amp;tbnh=133&amp;tbnw=99&amp;ei=rK6QR8TfOpi8-gKkr72yDg&amp;prev=/images?q=jezus&amp;gbv=2&amp;svnum=10&amp;hl=en&amp;sa=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anythinganywhere.com/commerce/military/lit-naz-news-1.jpg&amp;imgrefurl=http://www.anythinganywhere.com/commerce/military/ger-naz-book.htm&amp;h=1660&amp;w=2324&amp;sz=833&amp;hl=en&amp;start=5&amp;sig2=3UbKdcRpm5WpfiaUp0XiDw&amp;um=1&amp;tbnid=tyjMO3MbH78WtM:&amp;tbnh=107&amp;tbnw=150&amp;ei=Z-aZR9nPFIXIwQGdzOTWBw&amp;prev=/images?q=polish+language&amp;svnum=10&amp;um=1&amp;hl=en&amp;sa=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igos02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m/imgres?imgurl=http://content.answers.com/main/content/wp/en-commons/thumb/6/63/250px-Ruskie.jpg&amp;imgrefurl=http://www.answers.com/topic/polish-cuisine&amp;h=233&amp;w=250&amp;sz=19&amp;hl=en&amp;start=3&amp;um=1&amp;tbnid=L8XADklbHZC6AM:&amp;tbnh=103&amp;tbnw=111&amp;prev=/images?q=pierogi&amp;svnum=10&amp;um=1&amp;hl=en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com/imgres?imgurl=http://pierozek.com/img/oferta/uszka/uszka_200u.jpg&amp;imgrefurl=http://pierozek.com/?q=Offer&amp;q2=Uszka&amp;h=150&amp;w=200&amp;sz=6&amp;hl=en&amp;start=1&amp;um=1&amp;tbnid=-pGAxg7nxnizyM:&amp;tbnh=78&amp;tbnw=104&amp;prev=/images?q=uszka&amp;svnum=10&amp;um=1&amp;hl=en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images.google.pl/imgres?imgurl=http://rycerska.automat.pl/rycerska/images_art/IMGO118629186146b560953cb8f.jpg&amp;imgrefurl=http://rycerska.automat.pl/rycerska/polecamy/&amp;h=209&amp;w=314&amp;sz=57&amp;hl=pl&amp;start=3&amp;sig2=reRYzk-x9HuMOP0nF0AW9g&amp;um=1&amp;tbnid=TLtgLsnHvW9ZPM:&amp;tbnh=78&amp;tbnw=117&amp;ei=leeZR8mEApuKwAGtosTpBw&amp;prev=/images?q=go&#322;&#261;bki&amp;svnum=10&amp;um=1&amp;hl=pl&amp;sa=N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trykowski.net/ciasto/Sernik_258.jpg&amp;imgrefurl=http://www.strykowski.net/ciasto/Sernik_258.php&amp;h=545&amp;w=560&amp;sz=110&amp;hl=en&amp;start=2&amp;um=1&amp;tbnid=Hx_662gbuDQ02M:&amp;tbnh=129&amp;tbnw=133&amp;prev=/images?q=sernik&amp;svnum=10&amp;um=1&amp;hl=en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/imgres?imgurl=http://www.brzesc.pl/oferta_img/big/brzesc-oferta-2005-05-08-makowiec.jpg&amp;imgrefurl=http://www.brzesc.pl/index.php?user=&amp;par=oferta_pokaz&amp;id_produkt=45&amp;id_kat=&amp;h=313&amp;w=400&amp;sz=51&amp;hl=en&amp;start=5&amp;um=1&amp;tbnid=LcMrK8nfemi0XM:&amp;tbnh=97&amp;tbnw=124&amp;prev=/images?q=makowiec&amp;svnum=10&amp;um=1&amp;hl=en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m/imgres?imgurl=http://www.foodlink.pl/pics/przepisy_kulinarne_barszcz.JPG&amp;imgrefurl=http://www.foodlink.pl/kat/przepisy_kulinarne_polska/przepisy_swiateczne/przepisy_bozonarodzeniowe&amp;h=600&amp;w=800&amp;sz=76&amp;hl=en&amp;start=9&amp;um=1&amp;tbnid=UqeA8GlJNNmOxM:&amp;tbnh=107&amp;tbnw=143&amp;prev=/images?q=barszcz&amp;svnum=10&amp;um=1&amp;hl=en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images.google.com/imgres?imgurl=http://trufla3gotuje.blox.pl/resource/flaczki.jpg&amp;imgrefurl=http://trufla3gotuje.blox.pl/2006/12/Flaki-nie-moje-a-wolowe.html&amp;h=448&amp;w=598&amp;sz=34&amp;hl=en&amp;start=5&amp;um=1&amp;tbnid=gFQJn2XA3BUxHM:&amp;tbnh=101&amp;tbnw=135&amp;prev=/images?q=flaki&amp;svnum=10&amp;um=1&amp;hl=en" TargetMode="External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pl/imgres?imgurl=http://gifybejbi85.blox.pl/resource/Imieniny.gif&amp;imgrefurl=http://misia-karolinka-blog97.bloog.pl/kat,0,m,2,r,2007,index.html&amp;h=300&amp;w=450&amp;sz=28&amp;hl=pl&amp;start=1&amp;sig2=itVMC3zkNlV3OZfKHrAOrw&amp;um=1&amp;tbnid=UAQcrw3291C3DM:&amp;tbnh=85&amp;tbnw=127&amp;ei=P-mZR5KuHYqOwQHD0dznBw&amp;prev=/images?q=imieniny&amp;svnum=10&amp;um=1&amp;hl=pl&amp;sa=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google.pl/imgres?imgurl=http://www.marriagetogo.com/uploads/easter_egg_purple_ribbon.JPG&amp;imgrefurl=http://gry.inea.pl/index.php?option=com_frontpage&amp;Itemid=1&amp;limit=6&amp;limitstart=72&amp;h=350&amp;w=248&amp;sz=27&amp;hl=pl&amp;start=7&amp;sig2=YM1HDPC2uggzXu3VCacy6g&amp;um=1&amp;tbnid=dQh3bO7VXxCyoM:&amp;tbnh=120&amp;tbnw=85&amp;ei=XumZR7WiBoXiwgHA1ZHQBw&amp;prev=/images?q=easter&amp;svnum=10&amp;um=1&amp;hl=pl&amp;sa=G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google.com/imgres?imgurl=http://www.awesomeclipartforeducators.com/coloringpages/easter-cp10.gif&amp;imgrefurl=http://www.awesomeclipartforeducators.com/eastercoloringpages.cfm&amp;h=700&amp;w=700&amp;sz=12&amp;hl=en&amp;start=7&amp;um=1&amp;tbnid=eJYWWruxAiPWXM:&amp;tbnh=140&amp;tbnw=140&amp;prev=/images?q=easter&amp;svnum=10&amp;um=1&amp;hl=en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images.google.com/imgres?imgurl=http://f.screensavers.com/migration/wp/Easter_Buddies_800.jpg&amp;imgrefurl=http://www.screensavers.com/Home/Holidays/Easter/Bunnies+-+Ducklings/Easter+Buddies/index.html?SS_ID=11226_12336_12339_88816&amp;aff_id=202&amp;h=600&amp;w=800&amp;sz=148&amp;hl=en&amp;start=6&amp;um=1&amp;tbnid=-z-QVkiagM6iPM:&amp;tbnh=107&amp;tbnw=143&amp;prev=/images?q=easter&amp;svnum=10&amp;um=1&amp;hl=en" TargetMode="External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pl/imgres?imgurl=http://www.travelpoland.com/cms/images/upload/christmas-xmas-poland.jpg&amp;imgrefurl=http://www.travelpoland.com/index.php?pid=37&amp;h=150&amp;w=150&amp;sz=11&amp;hl=pl&amp;start=2&amp;sig2=wtUznGBQ5DYXLSK0fh4wYA&amp;um=1&amp;tbnid=nKkKhZnd9O76HM:&amp;tbnh=96&amp;tbnw=96&amp;ei=f-mZR8TfFJrswwGwz_XlBw&amp;prev=/images?q=christmas+in+poland&amp;svnum=10&amp;um=1&amp;hl=pl&amp;sa=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pl/imgres?imgurl=http://julcia.org/christmas/jaselka2.jpg&amp;imgrefurl=http://julcia.org/christmas/christmastraditions.html&amp;h=381&amp;w=545&amp;sz=33&amp;hl=pl&amp;start=9&amp;sig2=15DxBbc3Y6cIk2vS0n4dUQ&amp;um=1&amp;tbnid=kstGAd4HPAw3wM:&amp;tbnh=93&amp;tbnw=133&amp;ei=f-mZR8TfFJrswwGwz_XlBw&amp;prev=/images?q=christmas+in+poland&amp;svnum=10&amp;um=1&amp;hl=pl&amp;sa=G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s.google.com/imgres?imgurl=http://www.warsawvoice.pl/image/pyp/stol.gif&amp;imgrefurl=http://www.warsawvoice.pl/view/4426&amp;h=359&amp;w=323&amp;sz=27&amp;hl=en&amp;start=15&amp;um=1&amp;tbnid=Z05W_yiSZ_B_0M:&amp;tbnh=121&amp;tbnw=109&amp;prev=/images?q=christmas+eve+poland&amp;svnum=10&amp;um=1&amp;hl=en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mage:Czarownic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285920"/>
            <a:ext cx="6643800" cy="4286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My Country Po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ole tekstowe 9"/>
          <p:cNvSpPr/>
          <p:nvPr/>
        </p:nvSpPr>
        <p:spPr>
          <a:xfrm>
            <a:off x="3143160" y="5715000"/>
            <a:ext cx="478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By Aga Grad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ole tekstowe 11"/>
          <p:cNvSpPr/>
          <p:nvPr/>
        </p:nvSpPr>
        <p:spPr>
          <a:xfrm>
            <a:off x="2143080" y="578628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ain Square Wrocław (Ryne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ole tekstowe 5"/>
          <p:cNvSpPr/>
          <p:nvPr/>
        </p:nvSpPr>
        <p:spPr>
          <a:xfrm>
            <a:off x="7000920" y="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4/03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G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az 3" descr="http://tbn0.google.com/images?q=tbn:xqka-ORfK-8S4M:http://library.thinkquest.org/J0110166/images/ciuciubabka_do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997360"/>
            <a:ext cx="1571400" cy="1185840"/>
          </a:xfrm>
          <a:prstGeom prst="rect">
            <a:avLst/>
          </a:prstGeom>
          <a:ln w="0">
            <a:noFill/>
          </a:ln>
        </p:spPr>
      </p:pic>
      <p:sp>
        <p:nvSpPr>
          <p:cNvPr id="89" name="pole tekstowe 6"/>
          <p:cNvSpPr/>
          <p:nvPr/>
        </p:nvSpPr>
        <p:spPr>
          <a:xfrm>
            <a:off x="571680" y="135720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e don't really have any traditional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Polish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am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ost of our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mes are just normal or very common games with a different Poli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ole tekstowe 4"/>
          <p:cNvSpPr/>
          <p:nvPr/>
        </p:nvSpPr>
        <p:spPr>
          <a:xfrm>
            <a:off x="611280" y="4221000"/>
            <a:ext cx="15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Ci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ci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Bab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ole tekstowe 5"/>
          <p:cNvSpPr/>
          <p:nvPr/>
        </p:nvSpPr>
        <p:spPr>
          <a:xfrm>
            <a:off x="2286000" y="242892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ole tekstowe 7"/>
          <p:cNvSpPr/>
          <p:nvPr/>
        </p:nvSpPr>
        <p:spPr>
          <a:xfrm>
            <a:off x="2124000" y="2852640"/>
            <a:ext cx="585792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This is a simple Polish game called "Ciu ciu babka" translated into "Blind Woman”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All you need for this game is a scarf or something to cover your e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The objective of the game is for the blind woman to catch somebody. When you get touched you are the new bling woma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Very simp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ole tekstowe 9"/>
          <p:cNvSpPr/>
          <p:nvPr/>
        </p:nvSpPr>
        <p:spPr>
          <a:xfrm>
            <a:off x="3203640" y="45813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bij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ole tekstowe 10"/>
          <p:cNvSpPr/>
          <p:nvPr/>
        </p:nvSpPr>
        <p:spPr>
          <a:xfrm>
            <a:off x="2050920" y="4941720"/>
            <a:ext cx="5500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his is a game like dodge ball and piggy or monkey in the middle combined toget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wo people stand on the outside of the area and try to hit the people with the ball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ole tekstowe 3"/>
          <p:cNvSpPr/>
          <p:nvPr/>
        </p:nvSpPr>
        <p:spPr>
          <a:xfrm>
            <a:off x="3214800" y="21420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2 og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ole tekstowe 4"/>
          <p:cNvSpPr/>
          <p:nvPr/>
        </p:nvSpPr>
        <p:spPr>
          <a:xfrm>
            <a:off x="1143000" y="1052640"/>
            <a:ext cx="800100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ranslated into "2 fires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here are two groups on two sides of the area and one person from each group goes behind the oponents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hen on "start" the teams start throwing balls at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f the ball touches you you're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ut if somebody from your team catches the ball you're back in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ole tekstowe 3"/>
          <p:cNvSpPr/>
          <p:nvPr/>
        </p:nvSpPr>
        <p:spPr>
          <a:xfrm>
            <a:off x="2916360" y="306864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odch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1258920" y="3789360"/>
            <a:ext cx="7643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dchody translated into "trace and track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 this game there are two small 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ne of the groups runs away and draws arrows to leave a track behind them while the other team counts to ten before they set out to find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You can also leave notes and other hints and clues if you like. 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raditional Polish Clot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75320" y="1599840"/>
            <a:ext cx="40161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is one of the most beautiful traditional polish cloth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t is called the Łowicki costu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Woman wear colourful skirts with flowers and other decorations, white shirts, a black waistcoat, black shoes, a red necklace, red shawl and plaits in the hair with colourful flowers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en wear black shoes, also red trousers with colourful decorations, white shirt, black waistcoat and a black ha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ere are traditional costumes for each region in Pola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43000" y="1960560"/>
            <a:ext cx="2449440" cy="3592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Famous 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Image:JohannesPaulI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341360"/>
            <a:ext cx="1504800" cy="21528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611280" y="357336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pe John Paul the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2700360" y="1341360"/>
            <a:ext cx="5472000" cy="30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ohn Paul the II, born in Wadowice, Poland, was the 264th Pope in the Roman Catholic Chu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He was the 1st and only Slavic P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He was a Pope for almost 27 years until his death accured (84 years of age) on the 2nd of april 200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ver 2 million people came to Vatican City to mourn his death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Statue of Pope John Paul II, Catedral de la Almudena, Madri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4076640"/>
            <a:ext cx="1512720" cy="1774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3"/>
          <p:cNvSpPr/>
          <p:nvPr/>
        </p:nvSpPr>
        <p:spPr>
          <a:xfrm>
            <a:off x="539640" y="5942160"/>
            <a:ext cx="28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tue of Pope John Paul II,  Cathedral de la Amudena, Madrid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220px-PolanskiIFFK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214200"/>
            <a:ext cx="1400040" cy="1800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395280" y="2205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oman Polań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411280" y="260280"/>
            <a:ext cx="63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man Polański is a famous Polish film director, writer, actor and a produc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e has made films like: Frantic (1988), Death and the maiden (1994), The pianist (2002), Oliver Twist (2005) and m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he Academy Award-winnig and Cannes Film Festival Palme d'Or- winning films were The pianist and Oliver Tw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7358040" y="500076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tue of Nico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opernicu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lszty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9" descr="Pomnik Mikołaja Kopernika w Olsztyni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16720" y="2714760"/>
            <a:ext cx="1727280" cy="2171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0" descr="250px-Nikolaus_Koperniku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040" y="2786040"/>
            <a:ext cx="1428840" cy="1785960"/>
          </a:xfrm>
          <a:prstGeom prst="rect">
            <a:avLst/>
          </a:prstGeom>
          <a:ln w="0">
            <a:noFill/>
          </a:ln>
        </p:spPr>
      </p:pic>
      <p:sp>
        <p:nvSpPr>
          <p:cNvPr id="114" name="Prostokąt 7"/>
          <p:cNvSpPr/>
          <p:nvPr/>
        </p:nvSpPr>
        <p:spPr>
          <a:xfrm>
            <a:off x="500040" y="485784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colaus Copernicu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rostokąt 8"/>
          <p:cNvSpPr/>
          <p:nvPr/>
        </p:nvSpPr>
        <p:spPr>
          <a:xfrm>
            <a:off x="2500200" y="2714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e was born in Toruń on the 19th of February in 147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e was the first person to prove that the earth revolves around the sun, not on the contrary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3"/>
          <p:cNvSpPr/>
          <p:nvPr/>
        </p:nvSpPr>
        <p:spPr>
          <a:xfrm>
            <a:off x="1042920" y="2924280"/>
            <a:ext cx="7143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ryderyk Chopin born in Żelazowa Bola near Warsaw from a Polish mother and a French expatriot father is believed to be the most talented pianist and composer of the Romanticism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e was also the 1st world known composer to introduce slavic elements in his works, especially his Mazurkas and Polonai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4" descr="cho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260280"/>
            <a:ext cx="1714320" cy="1857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fortepia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404640"/>
            <a:ext cx="1428480" cy="1643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6"/>
          <p:cNvSpPr/>
          <p:nvPr/>
        </p:nvSpPr>
        <p:spPr>
          <a:xfrm>
            <a:off x="2771640" y="2205000"/>
            <a:ext cx="28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Fryderyk Chop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Famous Pl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Symbol zastępczy zawartości 3" descr="http://academic.emporia.edu/aberjame/ice/lec14/wielicz1.jpg"/>
          <p:cNvPicPr/>
          <p:nvPr/>
        </p:nvPicPr>
        <p:blipFill>
          <a:blip r:embed="rId1"/>
          <a:stretch/>
        </p:blipFill>
        <p:spPr>
          <a:xfrm>
            <a:off x="857160" y="928800"/>
            <a:ext cx="1928880" cy="1357200"/>
          </a:xfrm>
          <a:prstGeom prst="rect">
            <a:avLst/>
          </a:prstGeom>
          <a:ln w="0">
            <a:noFill/>
          </a:ln>
        </p:spPr>
      </p:pic>
      <p:pic>
        <p:nvPicPr>
          <p:cNvPr id="122" name="Obraz 4" descr="http://tbn0.google.com/images?q=tbn:tdxTYrnuKuF0sM:http://www.cooltourcompany.com/wieliczka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14800" y="928800"/>
            <a:ext cx="1571400" cy="1428480"/>
          </a:xfrm>
          <a:prstGeom prst="rect">
            <a:avLst/>
          </a:prstGeom>
          <a:ln w="0">
            <a:noFill/>
          </a:ln>
        </p:spPr>
      </p:pic>
      <p:pic>
        <p:nvPicPr>
          <p:cNvPr id="123" name="Obraz 5" descr="http://tbn0.google.com/images?q=tbn:-uMXg5oD8hyEfM:http://upload.wikimedia.org/wikipedia/commons/thumb/6/6a/Wieliczka_salt_mine_chandelier.jpg/700px-Wieliczka_salt_mine_chandelier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14960" y="928800"/>
            <a:ext cx="1500120" cy="1357200"/>
          </a:xfrm>
          <a:prstGeom prst="rect">
            <a:avLst/>
          </a:prstGeom>
          <a:ln w="0">
            <a:noFill/>
          </a:ln>
        </p:spPr>
      </p:pic>
      <p:sp>
        <p:nvSpPr>
          <p:cNvPr id="124" name="pole tekstowe 7"/>
          <p:cNvSpPr/>
          <p:nvPr/>
        </p:nvSpPr>
        <p:spPr>
          <a:xfrm>
            <a:off x="785880" y="250020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ieliczka Salt 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ole tekstowe 6"/>
          <p:cNvSpPr/>
          <p:nvPr/>
        </p:nvSpPr>
        <p:spPr>
          <a:xfrm>
            <a:off x="785880" y="2857680"/>
            <a:ext cx="5929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he mine reaches to a depth of 327 meters, and is 300 km long. There is a special tourist route that is 3.5km long that shows hystoric and mythic figures that have been sculpted by the miners out of rock sa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ven the crystal chandaliers are made out of sa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Obraz 329" descr="http://tbn0.google.com/images?q=tbn:F47b94T8qSbgoM:http://alternative4p4.blox.pl/resource/wroclaw_11_Ostrow_Tumski_1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57160" y="4357800"/>
            <a:ext cx="1266840" cy="933480"/>
          </a:xfrm>
          <a:prstGeom prst="rect">
            <a:avLst/>
          </a:prstGeom>
          <a:ln w="0">
            <a:noFill/>
          </a:ln>
        </p:spPr>
      </p:pic>
      <p:pic>
        <p:nvPicPr>
          <p:cNvPr id="127" name="Obraz 330" descr="http://tbn0.google.com/images?q=tbn:3ITxlMFG8UocHM:http://alternative4p4.blox.pl/resource/wroclaw_18_ostrow_tumski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286000" y="4357800"/>
            <a:ext cx="1266840" cy="914400"/>
          </a:xfrm>
          <a:prstGeom prst="rect">
            <a:avLst/>
          </a:prstGeom>
          <a:ln w="0">
            <a:noFill/>
          </a:ln>
        </p:spPr>
      </p:pic>
      <p:sp>
        <p:nvSpPr>
          <p:cNvPr id="128" name="pole tekstowe 9"/>
          <p:cNvSpPr/>
          <p:nvPr/>
        </p:nvSpPr>
        <p:spPr>
          <a:xfrm>
            <a:off x="857160" y="5357880"/>
            <a:ext cx="27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strów Tum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4000680" y="4379760"/>
            <a:ext cx="4929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(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island of the domes)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Today known as the oldest and the most historicle area in Wrocła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It also has the oldest bui;dings in wrocła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There is a beautiful cathed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Obraz 331" descr="http://tbn0.google.com/images?q=tbn:O6Mew-2Q9XA8gM:http://content.answers.com/main/content/wp/en-commons/thumb/3/31/300px-Wroclaw-Katedra-3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643880" y="5214960"/>
            <a:ext cx="105228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Obraz 316" descr="http://tbn0.google.com/images?q=tbn:cCo2BO8VJPKMyM:http://adamdziura.9g.pl/zdjecia/wroclaw-miasto-spotkan/image/800/IMG_221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285840"/>
            <a:ext cx="2286000" cy="1571400"/>
          </a:xfrm>
          <a:prstGeom prst="rect">
            <a:avLst/>
          </a:prstGeom>
          <a:ln w="0">
            <a:noFill/>
          </a:ln>
        </p:spPr>
      </p:pic>
      <p:sp>
        <p:nvSpPr>
          <p:cNvPr id="132" name="pole tekstowe 4"/>
          <p:cNvSpPr/>
          <p:nvPr/>
        </p:nvSpPr>
        <p:spPr>
          <a:xfrm>
            <a:off x="714240" y="200016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anorama Racławic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ole tekstowe 5"/>
          <p:cNvSpPr/>
          <p:nvPr/>
        </p:nvSpPr>
        <p:spPr>
          <a:xfrm>
            <a:off x="3143160" y="285840"/>
            <a:ext cx="5500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t is  a famous painting picturing the battle of Racław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he picture is spread on the walls of the Rotunda-shaped building gives view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he impression of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articipatin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in the batt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Obraz 317" descr="http://tbn0.google.com/images?q=tbn:0kYOuu76-DXLIM:http://www1.istockphoto.com/file_thumbview_approve/1109469/2/istockphoto_1109469_mariacki_church_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4240" y="2928960"/>
            <a:ext cx="1143000" cy="1428840"/>
          </a:xfrm>
          <a:prstGeom prst="rect">
            <a:avLst/>
          </a:prstGeom>
          <a:ln w="0">
            <a:noFill/>
          </a:ln>
        </p:spPr>
      </p:pic>
      <p:sp>
        <p:nvSpPr>
          <p:cNvPr id="135" name="pole tekstowe 8"/>
          <p:cNvSpPr/>
          <p:nvPr/>
        </p:nvSpPr>
        <p:spPr>
          <a:xfrm>
            <a:off x="714240" y="4429080"/>
            <a:ext cx="22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ariacki Cathed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ole tekstowe 9"/>
          <p:cNvSpPr/>
          <p:nvPr/>
        </p:nvSpPr>
        <p:spPr>
          <a:xfrm>
            <a:off x="3214800" y="2786040"/>
            <a:ext cx="5429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t's a brick Gothic church build in the 14th centu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t's beside the main market square in Kra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t's mostly famous for it's wooden altarpiece carved by Veit Sto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vey hour, a trumoet signal- called the "hejnal" is played from the top of St. Mary's two to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his trumpet sound is to remeber the 13th century trumpet player who got shot in the throat while he was sounding a alarm before the mongol at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Obraz 318" descr="http://squierj.freeyellow.com/Odessa2007/025WroclawSquare.jpg"/>
          <p:cNvPicPr/>
          <p:nvPr/>
        </p:nvPicPr>
        <p:blipFill>
          <a:blip r:embed="rId1"/>
          <a:stretch/>
        </p:blipFill>
        <p:spPr>
          <a:xfrm>
            <a:off x="571680" y="428760"/>
            <a:ext cx="2714400" cy="1571400"/>
          </a:xfrm>
          <a:prstGeom prst="rect">
            <a:avLst/>
          </a:prstGeom>
          <a:ln w="0">
            <a:noFill/>
          </a:ln>
        </p:spPr>
      </p:pic>
      <p:sp>
        <p:nvSpPr>
          <p:cNvPr id="138" name="pole tekstowe 4"/>
          <p:cNvSpPr/>
          <p:nvPr/>
        </p:nvSpPr>
        <p:spPr>
          <a:xfrm>
            <a:off x="571680" y="2143080"/>
            <a:ext cx="314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ynek (Main Squ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ole tekstowe 5"/>
          <p:cNvSpPr/>
          <p:nvPr/>
        </p:nvSpPr>
        <p:spPr>
          <a:xfrm>
            <a:off x="3357720" y="428760"/>
            <a:ext cx="492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nek was made in the 13th century. Since all those years Rynek has maintained it's size and sha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t's the second biggest square after cracow in ear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Obraz 319" descr="Wyburzony w 1864 i zastąpiony Nowym Ratuszem Dom Płócienników w bloku śródrynkowy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4240" y="2928960"/>
            <a:ext cx="1714680" cy="1314360"/>
          </a:xfrm>
          <a:prstGeom prst="rect">
            <a:avLst/>
          </a:prstGeom>
          <a:ln w="0">
            <a:noFill/>
          </a:ln>
        </p:spPr>
      </p:pic>
      <p:sp>
        <p:nvSpPr>
          <p:cNvPr id="141" name="pole tekstowe 11"/>
          <p:cNvSpPr/>
          <p:nvPr/>
        </p:nvSpPr>
        <p:spPr>
          <a:xfrm>
            <a:off x="642960" y="4357800"/>
            <a:ext cx="2714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building below was knocked down in 1864 and was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placed 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 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4th century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ith th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City H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braz 320" descr="City Hall in 14th century Brick Gothic style typical of the Holy Roman Empire and cities of the Hanseatic League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29200" y="2857680"/>
            <a:ext cx="2071800" cy="1357200"/>
          </a:xfrm>
          <a:prstGeom prst="rect">
            <a:avLst/>
          </a:prstGeom>
          <a:ln w="0">
            <a:noFill/>
          </a:ln>
        </p:spPr>
      </p:pic>
      <p:sp>
        <p:nvSpPr>
          <p:cNvPr id="143" name="pole tekstowe 13"/>
          <p:cNvSpPr/>
          <p:nvPr/>
        </p:nvSpPr>
        <p:spPr>
          <a:xfrm>
            <a:off x="5643720" y="4286160"/>
            <a:ext cx="321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The City Hall in the 14th century. (Brick Gothic sty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Other Pla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Obraz 321" descr="http://tbn0.google.com/images?q=tbn:IZaVI08RRUO_9M:http://lh3.google.com/_wUITfEb6kA8/Rn1kZUdspgI/AAAAAAAAAtQ/oFofn_pL9-8/s800/IMGP309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928800"/>
            <a:ext cx="2357640" cy="1485720"/>
          </a:xfrm>
          <a:prstGeom prst="rect">
            <a:avLst/>
          </a:prstGeom>
          <a:ln w="0">
            <a:noFill/>
          </a:ln>
        </p:spPr>
      </p:pic>
      <p:sp>
        <p:nvSpPr>
          <p:cNvPr id="146" name="pole tekstowe 4"/>
          <p:cNvSpPr/>
          <p:nvPr/>
        </p:nvSpPr>
        <p:spPr>
          <a:xfrm>
            <a:off x="500040" y="257184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he Rynek fount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Obraz 322" descr="Plac Solny (Salt Market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4920" y="785880"/>
            <a:ext cx="2286000" cy="1714320"/>
          </a:xfrm>
          <a:prstGeom prst="rect">
            <a:avLst/>
          </a:prstGeom>
          <a:ln w="0">
            <a:noFill/>
          </a:ln>
        </p:spPr>
      </p:pic>
      <p:sp>
        <p:nvSpPr>
          <p:cNvPr id="148" name="pole tekstowe 6"/>
          <p:cNvSpPr/>
          <p:nvPr/>
        </p:nvSpPr>
        <p:spPr>
          <a:xfrm>
            <a:off x="4714920" y="257184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lac Solny (The Salt Mark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rostokąt 7"/>
          <p:cNvSpPr/>
          <p:nvPr/>
        </p:nvSpPr>
        <p:spPr>
          <a:xfrm>
            <a:off x="4572000" y="3143160"/>
            <a:ext cx="4572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In 1827 they put a       statue up of a field Marshal Bluchera   and plac solny was named Blücherplatz. </a:t>
            </a:r>
            <a:br>
              <a:rPr sz="1600"/>
            </a:b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In the salt market there is a shelter that is 1000 m². The maximum number of people in the shelter is 300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Obraz 324" descr="Hala Stulecia (Centential Hall) also known as Hala Ludowa (People's Hall) (Ger.: Jahrhunderthalle) by the modernist architect Max Ber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040" y="3071880"/>
            <a:ext cx="2857680" cy="1904760"/>
          </a:xfrm>
          <a:prstGeom prst="rect">
            <a:avLst/>
          </a:prstGeom>
          <a:ln w="0">
            <a:noFill/>
          </a:ln>
        </p:spPr>
      </p:pic>
      <p:sp>
        <p:nvSpPr>
          <p:cNvPr id="151" name="Prostokąt 9"/>
          <p:cNvSpPr/>
          <p:nvPr/>
        </p:nvSpPr>
        <p:spPr>
          <a:xfrm>
            <a:off x="500040" y="5000760"/>
            <a:ext cx="285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Hala Stulecia (Centential Hall) also known as Hala Ludowa (People's Hall) by the modernist architect 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Max Berg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rostokąt 10"/>
          <p:cNvSpPr/>
          <p:nvPr/>
        </p:nvSpPr>
        <p:spPr>
          <a:xfrm>
            <a:off x="3643200" y="500076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The People's Hall is now used for concerts and sport game such as basket ball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ontents P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28760" y="121428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.Country Flags                                    14. Famous Pla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2.Religion &amp; Language                        15. Famous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3.Alphabet                                            16. Famous Place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4.Polish food                                         17. Other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5.Polish food                                         18. Polish Mon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6.Holidays and celebrations               19. Bibliogra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7.Christmas                                           20. Bibliography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8.Games                                                 21. End sl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9.G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0.Famous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1.Famous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2.Famous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3.Famous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lish 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az 351" descr="The image “http://www.info-polen.com/img/200zl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285840" y="1357200"/>
            <a:ext cx="2143080" cy="1214640"/>
          </a:xfrm>
          <a:prstGeom prst="rect">
            <a:avLst/>
          </a:prstGeom>
          <a:ln w="0">
            <a:noFill/>
          </a:ln>
        </p:spPr>
      </p:pic>
      <p:pic>
        <p:nvPicPr>
          <p:cNvPr id="155" name="Obraz 352" descr="The image “http://www.info-polen.com/img/100zl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3286080" y="1357200"/>
            <a:ext cx="2143080" cy="1214640"/>
          </a:xfrm>
          <a:prstGeom prst="rect">
            <a:avLst/>
          </a:prstGeom>
          <a:ln w="0">
            <a:noFill/>
          </a:ln>
        </p:spPr>
      </p:pic>
      <p:pic>
        <p:nvPicPr>
          <p:cNvPr id="156" name="Obraz 353" descr="The image “http://www.worldwide-tax.com/poland/images/50zl-r.jpg” cannot be displayed, because it contains errors."/>
          <p:cNvPicPr/>
          <p:nvPr/>
        </p:nvPicPr>
        <p:blipFill>
          <a:blip r:embed="rId3"/>
          <a:stretch/>
        </p:blipFill>
        <p:spPr>
          <a:xfrm>
            <a:off x="6500880" y="1357200"/>
            <a:ext cx="2143080" cy="1143000"/>
          </a:xfrm>
          <a:prstGeom prst="rect">
            <a:avLst/>
          </a:prstGeom>
          <a:ln w="0">
            <a:noFill/>
          </a:ln>
        </p:spPr>
      </p:pic>
      <p:pic>
        <p:nvPicPr>
          <p:cNvPr id="157" name="Obraz 354" descr="http://www.worldwide-tax.com/poland/images/20zl-r.jpg"/>
          <p:cNvPicPr/>
          <p:nvPr/>
        </p:nvPicPr>
        <p:blipFill>
          <a:blip r:embed="rId4"/>
          <a:stretch/>
        </p:blipFill>
        <p:spPr>
          <a:xfrm>
            <a:off x="1714680" y="2714760"/>
            <a:ext cx="2143080" cy="1214280"/>
          </a:xfrm>
          <a:prstGeom prst="rect">
            <a:avLst/>
          </a:prstGeom>
          <a:ln w="0">
            <a:noFill/>
          </a:ln>
        </p:spPr>
      </p:pic>
      <p:pic>
        <p:nvPicPr>
          <p:cNvPr id="158" name="Obraz 355" descr="http://digilander.libero.it/marcobanc/banc352a.jpg"/>
          <p:cNvPicPr/>
          <p:nvPr/>
        </p:nvPicPr>
        <p:blipFill>
          <a:blip r:embed="rId5"/>
          <a:stretch/>
        </p:blipFill>
        <p:spPr>
          <a:xfrm>
            <a:off x="5072040" y="2714760"/>
            <a:ext cx="2143080" cy="1214280"/>
          </a:xfrm>
          <a:prstGeom prst="rect">
            <a:avLst/>
          </a:prstGeom>
          <a:ln w="0">
            <a:noFill/>
          </a:ln>
        </p:spPr>
      </p:pic>
      <p:pic>
        <p:nvPicPr>
          <p:cNvPr id="159" name="Obraz 356" descr="http://tbn0.google.com/images?q=tbn:XOjhvGxGG-PL8M:http://www.mennica.com.pl/photo/2zloty_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785960" y="4071960"/>
            <a:ext cx="1000080" cy="785880"/>
          </a:xfrm>
          <a:prstGeom prst="rect">
            <a:avLst/>
          </a:prstGeom>
          <a:ln w="0">
            <a:noFill/>
          </a:ln>
        </p:spPr>
      </p:pic>
      <p:pic>
        <p:nvPicPr>
          <p:cNvPr id="160" name="Obraz 357" descr="http://tbn0.google.com/images?q=tbn:6pm811XSd9N1TM:http://www.nbp.gov.pl/banknoty/monety/5zl_r.gif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4071960"/>
            <a:ext cx="1031760" cy="785880"/>
          </a:xfrm>
          <a:prstGeom prst="rect">
            <a:avLst/>
          </a:prstGeom>
          <a:ln w="0">
            <a:noFill/>
          </a:ln>
        </p:spPr>
      </p:pic>
      <p:pic>
        <p:nvPicPr>
          <p:cNvPr id="161" name="Obraz 358" descr="http://tbn0.google.com/images?q=tbn:7AUtlyp1ualTTM:http://www.mennica.com.pl/photo/1zloty_2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500280" y="4071960"/>
            <a:ext cx="1000440" cy="785880"/>
          </a:xfrm>
          <a:prstGeom prst="rect">
            <a:avLst/>
          </a:prstGeom>
          <a:ln w="0">
            <a:noFill/>
          </a:ln>
        </p:spPr>
      </p:pic>
      <p:pic>
        <p:nvPicPr>
          <p:cNvPr id="162" name="Obraz 359" descr="http://tbn0.google.com/images?q=tbn:DWhvE7YRk29GBM:http://e-numizmatyka.pl/store/images/id_1838.gif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143680" y="4071960"/>
            <a:ext cx="1000080" cy="785880"/>
          </a:xfrm>
          <a:prstGeom prst="rect">
            <a:avLst/>
          </a:prstGeom>
          <a:ln w="0">
            <a:noFill/>
          </a:ln>
        </p:spPr>
      </p:pic>
      <p:pic>
        <p:nvPicPr>
          <p:cNvPr id="163" name="Obraz 360" descr="http://tbn0.google.com/images?q=tbn:NomjXWSEfy6PfM:http://www.mennica.com.pl/photo/20groszy_2.jpg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786720" y="4071960"/>
            <a:ext cx="1000080" cy="785880"/>
          </a:xfrm>
          <a:prstGeom prst="rect">
            <a:avLst/>
          </a:prstGeom>
          <a:ln w="0">
            <a:noFill/>
          </a:ln>
        </p:spPr>
      </p:pic>
      <p:pic>
        <p:nvPicPr>
          <p:cNvPr id="164" name="Obraz 361" descr="http://tbn0.google.com/images?q=tbn:1DZHbFIv1r0WyM:http://www.mennica.com.pl/photo/10groszy_2.jpg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643120" y="5000760"/>
            <a:ext cx="1000080" cy="785520"/>
          </a:xfrm>
          <a:prstGeom prst="rect">
            <a:avLst/>
          </a:prstGeom>
          <a:ln w="0">
            <a:noFill/>
          </a:ln>
        </p:spPr>
      </p:pic>
      <p:pic>
        <p:nvPicPr>
          <p:cNvPr id="165" name="Obraz 362" descr="http://tbn0.google.com/images?q=tbn:Og7p_AeJCD7dRM:http://www.mennica.com.pl/photo/5groszy_2.jpg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928800" y="5000760"/>
            <a:ext cx="1000080" cy="785520"/>
          </a:xfrm>
          <a:prstGeom prst="rect">
            <a:avLst/>
          </a:prstGeom>
          <a:ln w="0">
            <a:noFill/>
          </a:ln>
        </p:spPr>
      </p:pic>
      <p:pic>
        <p:nvPicPr>
          <p:cNvPr id="166" name="Obraz 363" descr="http://tbn0.google.com/images?q=tbn:a_8LZA_Hz0ehGM:http://www.mercadolibre.com.co/jm/img%3Fs%3DMCO%26f%3D4011820_4967.jpg%26v%3DP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4286160" y="4643280"/>
            <a:ext cx="1000080" cy="1500480"/>
          </a:xfrm>
          <a:prstGeom prst="rect">
            <a:avLst/>
          </a:prstGeom>
          <a:ln w="0">
            <a:noFill/>
          </a:ln>
        </p:spPr>
      </p:pic>
      <p:pic>
        <p:nvPicPr>
          <p:cNvPr id="167" name="Obraz 364" descr="http://tbn0.google.com/images?q=tbn:mzD8Y-BP5XdjaM:http://www.mercadolibre.com.co/jm/img%3Fs%3DMCO%26f%3D4011820_1195.jpg%26v%3DP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5929200" y="4857840"/>
            <a:ext cx="1000080" cy="8571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4464000" y="107748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4464000" y="18108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8"/>
          <p:cNvSpPr/>
          <p:nvPr/>
        </p:nvSpPr>
        <p:spPr>
          <a:xfrm>
            <a:off x="4464000" y="25441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9"/>
          <p:cNvSpPr/>
          <p:nvPr/>
        </p:nvSpPr>
        <p:spPr>
          <a:xfrm>
            <a:off x="4464000" y="32490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0" y="513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2"/>
          <p:cNvSpPr/>
          <p:nvPr/>
        </p:nvSpPr>
        <p:spPr>
          <a:xfrm>
            <a:off x="0" y="570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3"/>
          <p:cNvSpPr/>
          <p:nvPr/>
        </p:nvSpPr>
        <p:spPr>
          <a:xfrm>
            <a:off x="0" y="631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0" y="693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5"/>
          <p:cNvSpPr/>
          <p:nvPr/>
        </p:nvSpPr>
        <p:spPr>
          <a:xfrm>
            <a:off x="4464000" y="740196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4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6"/>
          <p:cNvSpPr/>
          <p:nvPr/>
        </p:nvSpPr>
        <p:spPr>
          <a:xfrm>
            <a:off x="0" y="813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7"/>
          <p:cNvSpPr/>
          <p:nvPr/>
        </p:nvSpPr>
        <p:spPr>
          <a:xfrm>
            <a:off x="4464000" y="868788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5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8"/>
          <p:cNvSpPr/>
          <p:nvPr/>
        </p:nvSpPr>
        <p:spPr>
          <a:xfrm>
            <a:off x="0" y="947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836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Calibri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n.wikipedia.org/wiki/Wroc%C5%82aw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festivals.iloveindia.com/easter/traditions/easter-in-poland.html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library.thinkquest.org/J0110166/Polish-games.htm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n.wikipedia.org/wiki/Pope_John_Paul_II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en.wikipedia.org/wiki/Roman_Polanski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4c35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4c35f5"/>
                </a:solidFill>
                <a:uFillTx/>
                <a:latin typeface="Calibri"/>
              </a:rPr>
              <a:t> </a:t>
            </a:r>
            <a:r>
              <a:rPr b="1" lang="en-GB" sz="1600" spc="-1" strike="noStrike" u="sng">
                <a:solidFill>
                  <a:srgbClr val="4c35f5"/>
                </a:solidFill>
                <a:uFillTx/>
                <a:latin typeface="Calibri"/>
              </a:rPr>
              <a:t>http://pl.wikipedia.org/wiki/Mik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Calibri"/>
              </a:rPr>
              <a:t>Pict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upload.wikimedia.org/wikipedia/commons/archive/c/c3/20050210234622!Polish-alphabet.png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images.google.com/images?hl=en&amp;q=fryderyk+chopin&amp;um=1&amp;ie=UTF-8&amp;sa=N&amp;tab=wi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GB" sz="1600" spc="-1" strike="noStrike" u="sng">
                <a:solidFill>
                  <a:srgbClr val="4c35f5"/>
                </a:solidFill>
                <a:uFillTx/>
                <a:latin typeface="Calibri"/>
              </a:rPr>
              <a:t>http://images.google.com/images?svnum=10&amp;um=1&amp;hl=en&amp;q=piano&amp;btnG=Search+Imag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przewodnik.onet.pl/_i/map/polska.gi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images.google.com/images?svnum=10&amp;um=1&amp;hl=en&amp;q=main+square+Wroclaw&amp;btnG=Search+Images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68360" y="404640"/>
            <a:ext cx="8229600" cy="612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Calibri"/>
              </a:rPr>
              <a:t>Pict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images.google.com/images?hl=en&amp;q=polish+money+&amp;um=1&amp;ie=UTF-8&amp;sa=N&amp;tab=wi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images.google.com/images?um=1&amp;hl=en&amp;q=polish+Flag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images.google.com/images?um=1&amp;hl=en&amp;q=wroc%C5%82aw%27s+flag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images.google.com/images?um=1&amp;hl=en&amp;q=the+white+eagle+of+poland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images.google.com/images?um=1&amp;hl=en&amp;q=Jesus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images.google.com/images?um=1&amp;hl=en&amp;q=polish+language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images.google.com/images?um=1&amp;hl=en&amp;q=bigos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images.google.com/images?um=1&amp;hl=en&amp;q=uszka+i+pierogi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images.google.com/images?um=1&amp;hl=en&amp;sa=X&amp;oi=spell&amp;resnum=0&amp;ct=result&amp;cd=1&amp;q=golabki&amp;spell=1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images.google.com/images?um=1&amp;hl=en&amp;q=flaki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images.google.com/images?um=1&amp;hl=en&amp;q=sernik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http://images.google.com/images?um=1&amp;hl=en&amp;q=makowiec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http://images.google.com/images?um=1&amp;hl=en&amp;q=barszcz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http://images.google.com/images?um=1&amp;hl=en&amp;q=wieliczka+salt+mine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http://images.google.com/images?um=1&amp;hl=en&amp;q=panorama+rac%C5%82awicka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http://images.google.com/images?um=1&amp;hl=en&amp;q=mariacki+cathedral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rostokąt 7" descr=""/>
          <p:cNvPicPr/>
          <p:nvPr/>
        </p:nvPicPr>
        <p:blipFill>
          <a:blip r:embed="rId1"/>
          <a:stretch/>
        </p:blipFill>
        <p:spPr>
          <a:xfrm>
            <a:off x="444600" y="324000"/>
            <a:ext cx="8285040" cy="1011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1800000" cy="1584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"/>
          <p:cNvPicPr/>
          <p:nvPr/>
        </p:nvPicPr>
        <p:blipFill>
          <a:blip r:embed="rId3"/>
          <a:stretch/>
        </p:blipFill>
        <p:spPr>
          <a:xfrm>
            <a:off x="539640" y="4653000"/>
            <a:ext cx="1800360" cy="1512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"/>
          <p:cNvPicPr/>
          <p:nvPr/>
        </p:nvPicPr>
        <p:blipFill>
          <a:blip r:embed="rId4"/>
          <a:stretch/>
        </p:blipFill>
        <p:spPr>
          <a:xfrm>
            <a:off x="6804000" y="4724280"/>
            <a:ext cx="1800360" cy="1513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"/>
          <p:cNvPicPr/>
          <p:nvPr/>
        </p:nvPicPr>
        <p:blipFill>
          <a:blip r:embed="rId5"/>
          <a:stretch/>
        </p:blipFill>
        <p:spPr>
          <a:xfrm>
            <a:off x="2411280" y="3235320"/>
            <a:ext cx="4465800" cy="1430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"/>
          <p:cNvPicPr/>
          <p:nvPr/>
        </p:nvPicPr>
        <p:blipFill>
          <a:blip r:embed="rId6"/>
          <a:stretch/>
        </p:blipFill>
        <p:spPr>
          <a:xfrm>
            <a:off x="6877080" y="1557360"/>
            <a:ext cx="129708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ountry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la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76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This</a:t>
            </a: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the flag of Poland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This is the flag of Wrocław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This is the emblem of Wrocław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Wrocław's motto: Miasto Spotkań (The City Of Meeting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The white eagle is the symbol of Poland. It is found in schools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passports, etc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_x000b_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4" descr="http://tbn0.google.com/images?q=tbn:fdxXqQtkNdwVzM:http://www.33ff.com/flags/XL_flags/Poland_flag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1628640"/>
            <a:ext cx="1285920" cy="771840"/>
          </a:xfrm>
          <a:prstGeom prst="rect">
            <a:avLst/>
          </a:prstGeom>
          <a:ln w="0">
            <a:noFill/>
          </a:ln>
        </p:spPr>
      </p:pic>
      <p:pic>
        <p:nvPicPr>
          <p:cNvPr id="51" name="Obraz 5" descr="Flag of Wrocław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92720" y="2565360"/>
            <a:ext cx="1285920" cy="785880"/>
          </a:xfrm>
          <a:prstGeom prst="rect">
            <a:avLst/>
          </a:prstGeom>
          <a:ln w="0">
            <a:noFill/>
          </a:ln>
        </p:spPr>
      </p:pic>
      <p:pic>
        <p:nvPicPr>
          <p:cNvPr id="52" name="Obraz 6" descr="Coat of arms of Wroc&amp;lstrok;aw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92720" y="3429000"/>
            <a:ext cx="952560" cy="1123920"/>
          </a:xfrm>
          <a:prstGeom prst="rect">
            <a:avLst/>
          </a:prstGeom>
          <a:ln w="0">
            <a:noFill/>
          </a:ln>
        </p:spPr>
      </p:pic>
      <p:pic>
        <p:nvPicPr>
          <p:cNvPr id="53" name="Obraz 8" descr="http://tbn0.google.com/images?q=tbn:1l6tJABTYTcbHM:http://4imgs.com/306/x/850511_FULL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364000" y="5013360"/>
            <a:ext cx="1285920" cy="1214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Symbol zastępczy zawartości 5" descr="http://tbn0.google.com/images?q=tbn:g7cd1UCG0aoOTM:http://www.aramnaharaim.org/Photo/Jezus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80" y="1357200"/>
            <a:ext cx="1214280" cy="1428840"/>
          </a:xfrm>
          <a:prstGeom prst="rect">
            <a:avLst/>
          </a:prstGeom>
          <a:ln w="0">
            <a:noFill/>
          </a:ln>
        </p:spPr>
      </p:pic>
      <p:sp>
        <p:nvSpPr>
          <p:cNvPr id="56" name="pole tekstowe 7"/>
          <p:cNvSpPr/>
          <p:nvPr/>
        </p:nvSpPr>
        <p:spPr>
          <a:xfrm>
            <a:off x="2286000" y="1214280"/>
            <a:ext cx="557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eligion in Poland has changed through out the centie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ore than 90% of Poland's population is Roman Catholic, with 80% regularly attending chu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az 8" descr="http://tbn0.google.com/images?q=tbn:tyjMO3MbH78WtM:http://www.anythinganywhere.com/commerce/military/lit-naz-news-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4240" y="4071960"/>
            <a:ext cx="1285920" cy="1428840"/>
          </a:xfrm>
          <a:prstGeom prst="rect">
            <a:avLst/>
          </a:prstGeom>
          <a:ln w="0">
            <a:noFill/>
          </a:ln>
        </p:spPr>
      </p:pic>
      <p:sp>
        <p:nvSpPr>
          <p:cNvPr id="58" name="pole tekstowe 9"/>
          <p:cNvSpPr/>
          <p:nvPr/>
        </p:nvSpPr>
        <p:spPr>
          <a:xfrm>
            <a:off x="2268360" y="3141720"/>
            <a:ext cx="485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lish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ole tekstowe 10"/>
          <p:cNvSpPr/>
          <p:nvPr/>
        </p:nvSpPr>
        <p:spPr>
          <a:xfrm>
            <a:off x="2428920" y="4143240"/>
            <a:ext cx="557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otal Speakers: 4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anguage family: Indo-earopean, Slavic, West Slavic and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Lechit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riting System: Lat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lish Alphab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Symbol zastępczy zawartości 3" descr="http://upload.wikimedia.org/wikipedia/commons/archive/c/c3/20050210234622!Polish-alphabet.png"/>
          <p:cNvPicPr/>
          <p:nvPr/>
        </p:nvPicPr>
        <p:blipFill>
          <a:blip r:embed="rId1"/>
          <a:stretch/>
        </p:blipFill>
        <p:spPr>
          <a:xfrm>
            <a:off x="920880" y="1639800"/>
            <a:ext cx="7229520" cy="4084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lish F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ome of the most traditional Polish dishes a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gos- Cabbage with me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ierogi i Uszka- 2 sorts of dumpling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ołąbki- Stuffed cabbag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Obraz 3" descr="Big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2000160"/>
            <a:ext cx="1500480" cy="714600"/>
          </a:xfrm>
          <a:prstGeom prst="rect">
            <a:avLst/>
          </a:prstGeom>
          <a:ln w="0">
            <a:noFill/>
          </a:ln>
        </p:spPr>
      </p:pic>
      <p:pic>
        <p:nvPicPr>
          <p:cNvPr id="65" name="Obraz 4" descr="http://tbn0.google.com/images?q=tbn:L8XADklbHZC6AM:http://content.answers.com/main/content/wp/en-commons/thumb/6/63/250px-Ruski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3429000"/>
            <a:ext cx="1057320" cy="981000"/>
          </a:xfrm>
          <a:prstGeom prst="rect">
            <a:avLst/>
          </a:prstGeom>
          <a:ln w="0">
            <a:noFill/>
          </a:ln>
        </p:spPr>
      </p:pic>
      <p:pic>
        <p:nvPicPr>
          <p:cNvPr id="66" name="Obraz 5" descr="http://tbn0.google.com/images?q=tbn:-pGAxg7nxnizyM:http://pierozek.com/img/oferta/uszka/uszka_200u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5000" y="3714840"/>
            <a:ext cx="990720" cy="743040"/>
          </a:xfrm>
          <a:prstGeom prst="rect">
            <a:avLst/>
          </a:prstGeom>
          <a:ln w="0">
            <a:noFill/>
          </a:ln>
        </p:spPr>
      </p:pic>
      <p:pic>
        <p:nvPicPr>
          <p:cNvPr id="67" name="Obraz 6" descr="http://tbn0.google.com/images?q=tbn:TLtgLsnHvW9ZPM:http://rycerska.automat.pl/rycerska/images_art/IMGO118629186146b560953cb8f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72000" y="5000760"/>
            <a:ext cx="1285920" cy="88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ernik- Cheese cak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akowiec- Poppy seed ro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arszcz- Beetroot so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laki- Tripe soup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Obraz 3" descr="http://tbn0.google.com/images?q=tbn:Hx_662gbuDQ02M:http://www.strykowski.net/ciasto/Sernik_25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00680" y="214200"/>
            <a:ext cx="1095120" cy="981360"/>
          </a:xfrm>
          <a:prstGeom prst="rect">
            <a:avLst/>
          </a:prstGeom>
          <a:ln w="0">
            <a:noFill/>
          </a:ln>
        </p:spPr>
      </p:pic>
      <p:pic>
        <p:nvPicPr>
          <p:cNvPr id="70" name="Obraz 4" descr="http://tbn0.google.com/images?q=tbn:LcMrK8nfemi0XM:http://www.brzesc.pl/oferta_img/big/brzesc-oferta-2005-05-08-makowiec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9040" y="1571760"/>
            <a:ext cx="1181160" cy="923760"/>
          </a:xfrm>
          <a:prstGeom prst="rect">
            <a:avLst/>
          </a:prstGeom>
          <a:ln w="0">
            <a:noFill/>
          </a:ln>
        </p:spPr>
      </p:pic>
      <p:pic>
        <p:nvPicPr>
          <p:cNvPr id="71" name="Obraz 5" descr="http://tbn0.google.com/images?q=tbn:UqeA8GlJNNmOxM:http://www.foodlink.pl/pics/przepisy_kulinarne_barszcz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6120" y="307188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72" name="Obraz 6" descr="http://tbn0.google.com/images?q=tbn:gFQJn2XA3BUxHM:http://trufla3gotuje.blox.pl/resource/flaczki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86120" y="4929120"/>
            <a:ext cx="1285920" cy="961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Holidays and Celebrations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Symbol zastępczy zawartości 3" descr="http://tbn0.google.com/images?q=tbn:UAQcrw3291C3DM:http://gifybejbi85.blox.pl/resource/Imieniny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0080" y="1857240"/>
            <a:ext cx="1643040" cy="1214640"/>
          </a:xfrm>
          <a:prstGeom prst="rect">
            <a:avLst/>
          </a:prstGeom>
          <a:ln w="0">
            <a:noFill/>
          </a:ln>
        </p:spPr>
      </p:pic>
      <p:sp>
        <p:nvSpPr>
          <p:cNvPr id="75" name="pole tekstowe 4"/>
          <p:cNvSpPr/>
          <p:nvPr/>
        </p:nvSpPr>
        <p:spPr>
          <a:xfrm>
            <a:off x="2643120" y="1857240"/>
            <a:ext cx="285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ost people in Poland celebrate Namedays rather than Birth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ole tekstowe 5"/>
          <p:cNvSpPr/>
          <p:nvPr/>
        </p:nvSpPr>
        <p:spPr>
          <a:xfrm>
            <a:off x="928800" y="142884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me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raz 6" descr="http://tbn0.google.com/images?q=tbn:dQh3bO7VXxCyoM:http://www.marriagetogo.com/uploads/easter_egg_purple_ribbo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00080" y="3500280"/>
            <a:ext cx="80964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Obraz 7" descr="http://tbn0.google.com/images?q=tbn:eJYWWruxAiPWXM:http://www.awesomeclipartforeducators.com/coloringpages/easter-cp10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28880" y="3500280"/>
            <a:ext cx="928800" cy="1143000"/>
          </a:xfrm>
          <a:prstGeom prst="rect">
            <a:avLst/>
          </a:prstGeom>
          <a:ln w="0">
            <a:noFill/>
          </a:ln>
        </p:spPr>
      </p:pic>
      <p:pic>
        <p:nvPicPr>
          <p:cNvPr id="79" name="Obraz 8" descr="http://tbn0.google.com/images?q=tbn:-z-QVkiagM6iPM:http://f.screensavers.com/migration/wp/Easter_Buddies_800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928960" y="3500280"/>
            <a:ext cx="1361880" cy="1162080"/>
          </a:xfrm>
          <a:prstGeom prst="rect">
            <a:avLst/>
          </a:prstGeom>
          <a:ln w="0">
            <a:noFill/>
          </a:ln>
        </p:spPr>
      </p:pic>
      <p:sp>
        <p:nvSpPr>
          <p:cNvPr id="80" name="pole tekstowe 9"/>
          <p:cNvSpPr/>
          <p:nvPr/>
        </p:nvSpPr>
        <p:spPr>
          <a:xfrm>
            <a:off x="1071720" y="314316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E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ole tekstowe 13"/>
          <p:cNvSpPr/>
          <p:nvPr/>
        </p:nvSpPr>
        <p:spPr>
          <a:xfrm>
            <a:off x="4357800" y="3500280"/>
            <a:ext cx="450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ne of the most out standing celebrations in Poland is Eas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he ‘’ Blessing Basket ’’ is one of the most unique Easter traditions in Pol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t is prepared on Saturday before Easter on Sun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he basket has colored eggs, bread, cake, salt, pepper, horse radish and white saus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ll of these things are taken to the church to be bl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raz 3" descr="http://tbn0.google.com/images?q=tbn:nKkKhZnd9O76HM:http://www.travelpoland.com/cms/images/upload/christmas-xmas-polan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260280"/>
            <a:ext cx="1314360" cy="1386000"/>
          </a:xfrm>
          <a:prstGeom prst="rect">
            <a:avLst/>
          </a:prstGeom>
          <a:ln w="0">
            <a:noFill/>
          </a:ln>
        </p:spPr>
      </p:pic>
      <p:pic>
        <p:nvPicPr>
          <p:cNvPr id="83" name="Obraz 4" descr="http://tbn0.google.com/images?q=tbn:kstGAd4HPAw3wM:http://julcia.org/christmas/jaselka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260280"/>
            <a:ext cx="1643040" cy="1386000"/>
          </a:xfrm>
          <a:prstGeom prst="rect">
            <a:avLst/>
          </a:prstGeom>
          <a:ln w="0">
            <a:noFill/>
          </a:ln>
        </p:spPr>
      </p:pic>
      <p:pic>
        <p:nvPicPr>
          <p:cNvPr id="84" name="Obraz 5" descr="http://tbn0.google.com/images?q=tbn:Z05W_yiSZ_B_0M:http://www.warsawvoice.pl/image/pyp/stol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651640" y="260280"/>
            <a:ext cx="1357200" cy="14382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1042920" y="2235960"/>
            <a:ext cx="72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hristmas Eve is another wonderful celebration in Po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Usually we spend the whole day preparing for Christmas Eve dinn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We eat 12 different dish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ome of them are, barszcz, pierogi, kapusta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We don't eat meat because of cathlic belief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Under the table we will always put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me hay because little Jezus was born in the stable and slept wrapped in a blanket in h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Before we sit to the table we have to wait for the first star to apear in the s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Before we start eating everybody gets a Christmas wafer and shares it with each person while giving them wis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fter we finish the meal, the children uswell as parents and other family members get to unpack their pres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t midnight everybody goes to the nearest church to celebrate the midnight mass, were everybody sings joyful car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The next day we have a Christmas breakfast and now we can eat meat.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348000" y="17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hrist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8:46:56Z</dcterms:created>
  <dc:creator>anna smith</dc:creator>
  <dc:description/>
  <dc:language>en-US</dc:language>
  <cp:lastModifiedBy>anna smith</cp:lastModifiedBy>
  <dcterms:modified xsi:type="dcterms:W3CDTF">2008-03-11T17:29:22Z</dcterms:modified>
  <cp:revision>42</cp:revision>
  <dc:subject/>
  <dc:title>My Country Poland</dc:title>
</cp:coreProperties>
</file>